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CCF-A55F-4929-845A-DBF6A0D7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750-9222-4D9C-AE1F-0807BCA1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9C5-93EB-4EBF-9D85-DEC95B02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63C-75E8-4E24-884F-44496B51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FBCD-07F9-4D58-A602-ED43EE20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F34B-629B-492C-927B-6D0B523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F6FB-C914-4312-B599-C505393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EC91-C4FA-4869-9011-4D13B340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0B87-21DE-4C3A-A48E-7B48504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660B-7D84-45FF-AE04-79D08F48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D92B-E8D7-4BF2-AE54-6445AC6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0AF-E920-42BE-AEB2-FC1B8150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5C5A-2D71-40D0-B33D-9CB409EF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10E6-A293-4097-B795-24FA5B0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41E1-B61E-4C06-B47C-3D79C4FA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5837-4D0F-4BDF-B5DE-A25C32B4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4CB5-7BCE-4CC3-BC41-85F6AF20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AD59-4391-4F6D-AA66-38039B27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C0C61-AE39-49FD-989A-929FD90A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9661-99BE-4FE6-B418-A8864432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C86A-494F-4527-B51A-8D6861D8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22B2-0643-4BC3-AE53-DB5ADE9C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4DA-0250-4F83-9419-FDAA132C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78FD-619B-442A-968B-E7DF20C7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EFDC-79A5-4490-98DE-54FE918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E225-2F84-435E-AD1C-94514E7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046D-EBB5-48D4-91B9-5D4B2D64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F1F5-743B-44F8-93E2-D2FA4950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98E3-A561-472C-AF91-F63B4B4B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C021-F4F4-4745-A1D0-BF4EC8CD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3675-CAE3-4697-BF5A-3F097FA2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AE31-31C0-4C18-B4BD-23CB45DF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5BE7-A863-498A-B181-08BF7DDD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CFC-C39A-4A73-92C0-1A98295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E703-BC8C-43F0-9F90-F2DF6545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B6BB-00CC-4E14-807F-93D5D15D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7E94-CF80-42A3-A9F6-BFF157D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B0E8-7A45-4F31-A6DC-1E40FD0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7FCF-5CDF-4EE4-BDAB-064FB18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F139-1A9D-44E9-AD9D-E0FFF62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5A6F-1912-40FC-8A21-0E9E8B6D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08A18-9E1B-4EDA-AA4F-E676C6D8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28D0-B8E4-47EA-ADFB-D92C1439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BEC4B-B18A-4B85-B60B-43172193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0B8-E953-4759-8B68-66FED25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0300-41FF-47D8-B1A7-C89AF164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1A9C1-1B8B-4538-A4F4-963183D2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C76A7-64A1-4F03-9430-A664DA17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8915-CDCB-4CDD-BC88-B7D4089C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6A0B7-9CC7-4FE1-9444-0A5868AE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FEEB-EC6A-4FD5-AA9D-DD2705A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07CAB-6B70-41E0-93A7-0898C0C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AD76-368F-4BF6-9850-CAFF776C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F1ABE-B33E-4EEF-8301-E12DA387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924BB-0765-4568-B7B8-4FF7A862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926-05A9-4651-B6E4-1F537971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8AF4D-0AF4-4B09-BC3A-6149BBD7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80CB-284F-418B-9632-7829F075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8C60-8491-4CEE-A92B-061593E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5CCBD-63B4-4AB4-824A-650E405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128E-7DD5-41F3-9DBB-8043505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8420-ABAF-4A99-B208-0B6B31C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7490-C2A9-4950-840F-4C20BC3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6898-B1EB-4B05-B59E-5CC8A37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F8C5-552F-4596-8E45-82E55EC7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55EA-8118-4A2D-A2A4-FCCFE97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E41-E19B-4E51-A799-453598A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8FEE-C7E9-48C3-B446-C19F4E33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5C65D-74E8-410D-971D-93487375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E7A31-BD61-4001-9B7F-77B1DB00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0F4ED-8B41-45D8-B2E1-108A5316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C3BCC-75EC-4279-9713-1774887B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064C5-3EF8-4B2E-BC23-817E9519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0F62-7A97-49BB-9ECA-8109719D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6D6D-1653-4C14-953A-EA7AB8DB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12158-45AC-46EB-8135-930EA30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0E965-64FF-426F-A35A-DB5740D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D80-787B-4A1D-92E1-34FFFF8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A98E-F951-4069-8C6A-79821FD1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636B-EA78-43CE-9C2E-028236A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B0423-F483-45D8-888D-302EF771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9CA22-BCAA-4A9A-B001-5DDE492C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CE093-461A-445F-AD22-E9730275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9A5-88B9-42F6-AC8F-A999BCFE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E476-951C-4EB0-8CFD-02033C413CCE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prstGeom prst="pie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AEE0-F9C3-473C-8CF6-2A08A310B3B4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prstGeom prst="pie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CD06-5DBC-47D1-A6A6-8AD82727769A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BFC4-0D2E-4DA2-9A5B-2AC5E97328C1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CE49-F1DB-4A12-8548-19B124F0B9D7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2172-D1FB-45BF-A0AA-501238B6629B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C229-CD6F-4543-8716-A71C660EE12D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k-12.pisd.edu/guide/elemen/index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Use for Stud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makes school work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s there are rules in your classroom, in the Science lab, at home, and for crossing the street safely, there are rules f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C:\Documents and Settings\121hintza.RRISD\Local Settings\Temporary Internet Files\Content.IE5\ONW2JTGI\MPj04393590000[1].jpg"/>
          <p:cNvPicPr/>
          <p:nvPr/>
        </p:nvPicPr>
        <p:blipFill>
          <a:blip r:embed="rId1"/>
          <a:stretch/>
        </p:blipFill>
        <p:spPr>
          <a:xfrm>
            <a:off x="6095880" y="38098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90720" y="304920"/>
            <a:ext cx="70866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838080" y="457200"/>
            <a:ext cx="76964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inter2a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4952880" y="274320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80880" y="15238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ess Ctrl-Alt-Delete, then logon, each time you use a school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rcRect l="0" t="4218" r="0" b="0"/>
          <a:stretch/>
        </p:blipFill>
        <p:spPr>
          <a:xfrm>
            <a:off x="2895480" y="2362320"/>
            <a:ext cx="3429000" cy="1733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2"/>
          <p:cNvSpPr/>
          <p:nvPr/>
        </p:nvSpPr>
        <p:spPr>
          <a:xfrm>
            <a:off x="380880" y="411588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666880" y="4724280"/>
            <a:ext cx="4038840" cy="1981440"/>
            <a:chOff x="2666880" y="4724280"/>
            <a:chExt cx="4038840" cy="1981440"/>
          </a:xfrm>
        </p:grpSpPr>
        <p:grpSp>
          <p:nvGrpSpPr>
            <p:cNvPr id="346" name="Group 3"/>
            <p:cNvGrpSpPr/>
            <p:nvPr/>
          </p:nvGrpSpPr>
          <p:grpSpPr>
            <a:xfrm>
              <a:off x="2666880" y="4724280"/>
              <a:ext cx="4038840" cy="1981440"/>
              <a:chOff x="2666880" y="4724280"/>
              <a:chExt cx="4038840" cy="1981440"/>
            </a:xfrm>
          </p:grpSpPr>
          <p:pic>
            <p:nvPicPr>
              <p:cNvPr id="347" name="Picture 4" descr="b 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4724280"/>
                <a:ext cx="403884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5"/>
              <p:cNvSpPr/>
              <p:nvPr/>
            </p:nvSpPr>
            <p:spPr>
              <a:xfrm>
                <a:off x="3414600" y="6000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6"/>
              <p:cNvSpPr/>
              <p:nvPr/>
            </p:nvSpPr>
            <p:spPr>
              <a:xfrm>
                <a:off x="3414600" y="5793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7"/>
              <p:cNvSpPr/>
              <p:nvPr/>
            </p:nvSpPr>
            <p:spPr>
              <a:xfrm>
                <a:off x="3414600" y="5586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8"/>
            <p:cNvSpPr/>
            <p:nvPr/>
          </p:nvSpPr>
          <p:spPr>
            <a:xfrm>
              <a:off x="3464640" y="6035040"/>
              <a:ext cx="244296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RRIS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urit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397880" y="160020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login as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121hintza.RRISD\Local Settings\Temporary Internet Files\Content.IE5\ONW2JTGI\MPj04393500000[1].jpg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aving Problem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09480" y="1523880"/>
            <a:ext cx="7848720" cy="204876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can’t log on or you are having other issues: 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your teacher what the problem is.  Computers don’t respond to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121hintza.RRISD\Local Settings\Temporary Internet Files\Content.IE5\FEGHQT2A\MPj04331800000[1].jpg"/>
          <p:cNvPicPr/>
          <p:nvPr/>
        </p:nvPicPr>
        <p:blipFill>
          <a:blip r:embed="rId1"/>
          <a:stretch/>
        </p:blipFill>
        <p:spPr>
          <a:xfrm>
            <a:off x="2514600" y="38862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you are don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838080" y="1447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0" t="9562" r="3733" b="0"/>
          <a:stretch/>
        </p:blipFill>
        <p:spPr>
          <a:xfrm>
            <a:off x="1523880" y="3352680"/>
            <a:ext cx="2210040" cy="216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273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on a Laptop:  Shutdow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838080" y="1828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64" name="Rectangle 2"/>
          <p:cNvSpPr/>
          <p:nvPr/>
        </p:nvSpPr>
        <p:spPr>
          <a:xfrm>
            <a:off x="3581280" y="198108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838080" y="228600"/>
            <a:ext cx="79250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1974960" y="2408400"/>
            <a:ext cx="4816440" cy="4437000"/>
          </a:xfrm>
          <a:prstGeom prst="rect">
            <a:avLst/>
          </a:prstGeom>
          <a:ln w="0">
            <a:noFill/>
          </a:ln>
        </p:spPr>
      </p:pic>
      <p:sp>
        <p:nvSpPr>
          <p:cNvPr id="367" name="Oval 5"/>
          <p:cNvSpPr/>
          <p:nvPr/>
        </p:nvSpPr>
        <p:spPr>
          <a:xfrm>
            <a:off x="3429000" y="4648320"/>
            <a:ext cx="1295280" cy="1143000"/>
          </a:xfrm>
          <a:prstGeom prst="ellipse">
            <a:avLst/>
          </a:prstGeom>
          <a:noFill/>
          <a:ln w="73080">
            <a:solidFill>
              <a:srgbClr val="fbe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respon4a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Mea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potpiegirl.com/wp-content/uploads/2008/02/thumbs-up.jpg"/>
          <p:cNvPicPr/>
          <p:nvPr/>
        </p:nvPicPr>
        <p:blipFill>
          <a:blip r:embed="rId1"/>
          <a:stretch/>
        </p:blipFill>
        <p:spPr>
          <a:xfrm>
            <a:off x="1066680" y="1752480"/>
            <a:ext cx="1378080" cy="162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Documents and Settings\121hintza.RRISD\Local Settings\Temporary Internet Files\Content.IE5\FEGHQT2A\MPj03905750000[1].jpg"/>
          <p:cNvPicPr/>
          <p:nvPr/>
        </p:nvPicPr>
        <p:blipFill>
          <a:blip r:embed="rId2"/>
          <a:stretch/>
        </p:blipFill>
        <p:spPr>
          <a:xfrm>
            <a:off x="6477120" y="2057400"/>
            <a:ext cx="2081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sing Technology is a Privilege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3520" y="34290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219320" y="1523880"/>
            <a:ext cx="6400800" cy="7642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n be los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121hintza.RRISD\Local Settings\Temporary Internet Files\Content.IE5\F3CYUJ9H\MPj04308400000[1].jpg"/>
          <p:cNvPicPr/>
          <p:nvPr/>
        </p:nvPicPr>
        <p:blipFill>
          <a:blip r:embed="rId1"/>
          <a:stretch/>
        </p:blipFill>
        <p:spPr>
          <a:xfrm>
            <a:off x="4800600" y="2971800"/>
            <a:ext cx="3651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redi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57200" y="2209680"/>
            <a:ext cx="83059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is presentation are courtesy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ISD. Used with permissio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b7e0e"/>
                </a:solidFill>
                <a:uFillTx/>
                <a:latin typeface="Arial"/>
                <a:hlinkClick r:id="rId1"/>
              </a:rPr>
              <a:t>http://k-12.pisd.edu/guide/eleme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ri West, ITS for RRI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nda Allen, ITS for RRI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by Angie Hintz, ITS for RRI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quipmen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38080" y="1828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Documents and Settings\121hintza.RRISD\Local Settings\Temporary Internet Files\Content.IE5\32GZV3NT\MPj04031590000[1].jpg"/>
          <p:cNvPicPr/>
          <p:nvPr/>
        </p:nvPicPr>
        <p:blipFill>
          <a:blip r:embed="rId1"/>
          <a:stretch/>
        </p:blipFill>
        <p:spPr>
          <a:xfrm>
            <a:off x="5791320" y="4038480"/>
            <a:ext cx="3130560" cy="209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Documents and Settings\121hintza.RRISD\Local Settings\Temporary Internet Files\Content.IE5\FEGHQT2A\MPj04330530000[1].jpg"/>
          <p:cNvPicPr/>
          <p:nvPr/>
        </p:nvPicPr>
        <p:blipFill>
          <a:blip r:embed="rId2"/>
          <a:stretch/>
        </p:blipFill>
        <p:spPr>
          <a:xfrm>
            <a:off x="762120" y="3809880"/>
            <a:ext cx="2622600" cy="2500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Documents and Settings\121hintza.RRISD\Local Settings\Temporary Internet Files\Content.IE5\F3CYUJ9H\MPj03164350000[1].jpg"/>
          <p:cNvPicPr/>
          <p:nvPr/>
        </p:nvPicPr>
        <p:blipFill>
          <a:blip r:embed="rId3"/>
          <a:stretch/>
        </p:blipFill>
        <p:spPr>
          <a:xfrm>
            <a:off x="3352680" y="4343400"/>
            <a:ext cx="21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14400" y="152388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Documents and Settings\121hintza.RRISD\Local Settings\Temporary Internet Files\Content.IE5\FEGHQT2A\MPj04394160000[1].jpg"/>
          <p:cNvPicPr/>
          <p:nvPr/>
        </p:nvPicPr>
        <p:blipFill>
          <a:blip r:embed="rId1"/>
          <a:stretch/>
        </p:blipFill>
        <p:spPr>
          <a:xfrm>
            <a:off x="2666880" y="25909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C:\Documents and Settings\121hintza.RRISD\Local Settings\Temporary Internet Files\Content.IE5\FEGHQT2A\MPj04393440000[1].jpg"/>
          <p:cNvPicPr/>
          <p:nvPr/>
        </p:nvPicPr>
        <p:blipFill>
          <a:blip r:embed="rId1"/>
          <a:stretch/>
        </p:blipFill>
        <p:spPr>
          <a:xfrm>
            <a:off x="6784920" y="3962520"/>
            <a:ext cx="2359080" cy="273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 Internet U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internet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11598"/>
          <a:stretch/>
        </p:blipFill>
        <p:spPr>
          <a:xfrm>
            <a:off x="4648320" y="4230720"/>
            <a:ext cx="4038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computer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2743200" y="2895480"/>
            <a:ext cx="365436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rade 3, 4 and 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72388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inter3aa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371600" y="4495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121hintza</cp:lastModifiedBy>
  <dcterms:modified xsi:type="dcterms:W3CDTF">2009-09-08T19:33:29Z</dcterms:modified>
  <cp:revision>42</cp:revision>
  <dc:subject/>
  <dc:title>Student Internet Use</dc:title>
</cp:coreProperties>
</file>